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354-6466-4C48-B6E7-8A58D941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C1D-53BA-4DDA-8269-9532351C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57C-872F-4C31-8421-1012B170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806-8755-4C74-9542-8D723D86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923-E557-4B84-A53E-D62BEFD6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9B1-EE8D-4DA2-8DC0-FF3D1490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F06-96C2-4AE9-86C7-17140E43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FE5-89A5-470F-BE59-20440058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099-2143-4F3C-8C89-B4E4BB1B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E3B-63F9-4C0D-A95E-AB212C19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0FC-A5C3-47D0-9DD9-6C0D9B3B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9CB-F1FD-40FC-9013-7F9F8CF0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36F5-D35B-4FF7-8058-71A313FDAF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D15A Introducción a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dor de Profund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765000"/>
            <a:ext cx="756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Diseño y construcción de un instrumento, capaz de medir profundidad en el agu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pecif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1628640"/>
            <a:ext cx="8532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Rango de Medición 0 a 5 mts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Portátil y autónomo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Materiales de desecho y/o materiales simples 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Fácil de usa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Amigable con el medio ambiente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Tener una vida útil de más de 10 medi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ámetros de C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cis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petit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cilidad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mpacto en el me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ateriales uti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68360" y="1268280"/>
          <a:ext cx="8229600" cy="4616640"/>
        </p:xfrm>
        <a:graphic>
          <a:graphicData uri="http://schemas.openxmlformats.org/drawingml/2006/table">
            <a:tbl>
              <a:tblPr/>
              <a:tblGrid>
                <a:gridCol w="1306440"/>
                <a:gridCol w="4165560"/>
                <a:gridCol w="2757600"/>
              </a:tblGrid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ase de Cáted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 (28/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lanteamiento Proyecto B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formación de Grupos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geniería Concep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 (05/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ceptos de Instru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1 (19/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ntrega infor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Definición de forma de medición, 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geniería de Detal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2 (26/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3 (02/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ntrega informe ,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str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 (09/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5 (16/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ntrega Informe Final Proyecto B, Prue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esentaciones Grupos (15 min c/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Concep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mana 9: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ición de esquema de trabajo y r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rainStor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Investigación: Métodos de medición de profund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mana 10: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ición método de medición de profund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mación de consorcios de grup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mana 11: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resentaciones por conso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ición de Método (1 para todo el cur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éctor Agusto A.</cp:lastModifiedBy>
  <dcterms:modified xsi:type="dcterms:W3CDTF">2006-09-28T15:10:20Z</dcterms:modified>
  <cp:revision>12</cp:revision>
  <dc:subject/>
  <dc:title>EL63A-Taller de Proyecto en Control II</dc:title>
</cp:coreProperties>
</file>